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7C0A-B476-43EC-8806-904F5EEAA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ng the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ng quality improvement approaches suggested by other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fluctuations in attitude about the team's chance of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ing among members, even when they agree on the re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iveness, competition, and choosing s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he wisdom of those who selected the project and appointed the members of the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unrealistic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unity, increased tension, and jealous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975E9-D1F1-4E7B-9608-F8E493DCE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8964D-C212-47E6-81D5-32AF0B1D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BB87D-5578-435F-8DA3-A7B7A5D4A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5CE98-F832-4D7D-8C67-507FDF75E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F25F8-CB12-4C6B-AA46-4AD44B805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F3492-86DE-4659-84AF-33F80AE6C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29F9C-0E1B-4F6B-8A24-D36100B12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66DC0-1DBD-4F9A-9319-5DFDA3936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71D12-530D-4253-AF7A-496CA734B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C34C2-A540-40A7-A2B4-5F94EFE89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89CA3-4030-4182-8D42-AB6CAC556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EB0B-795B-4FF0-9625-BBF790A23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C0FD-0827-47A7-8D64-901845AA3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210AF-B9F6-4137-A2D9-D10FEEF3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67BD8-791B-4A88-AEAE-ED6FBED6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824D0-730F-4CC9-966B-D40A724AE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6706E-DDD5-49E1-82D1-2302B4375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C7EE-007F-4D0D-AC8F-1AF27CBB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7745-F256-4B32-9901-D354C183D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E597A-3784-4CF1-90C2-1F3F3BCF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D1A6-2939-4624-8426-7B0EE58D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182D-3F78-42F7-B22C-5F2F80CF7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95BC-4F9D-4BF3-B65B-177BB788E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609F-899D-46E6-B495-BA2AB62AF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9D45-180E-4903-BEBB-D1F029DD26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225D-521D-4177-BA86-4F6A4B9217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spa.american.edu/listings.php?ID=26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m Lifecycle</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ing</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journing</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ing </a:t>
            </a:r>
            <a:endParaRPr b="1" lang="en-US" sz="3900" spc="-1" strike="noStrike">
              <a:solidFill>
                <a:srgbClr val="330066"/>
              </a:solidFill>
              <a:latin typeface="Arial"/>
            </a:endParaRPr>
          </a:p>
        </p:txBody>
      </p:sp>
      <p:sp>
        <p:nvSpPr>
          <p:cNvPr id="159" name="PlaceHolder 2"/>
          <p:cNvSpPr>
            <a:spLocks noGrp="1"/>
          </p:cNvSpPr>
          <p:nvPr>
            <p:ph/>
          </p:nvPr>
        </p:nvSpPr>
        <p:spPr>
          <a:xfrm>
            <a:off x="533520" y="1828440"/>
            <a:ext cx="81532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action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member introduction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why they were chosen or volunteered for the team </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what they hope to accomplish within the team.</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cautiously explore the boundaries of acceptable group behavior.</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from individual to member status</a:t>
            </a:r>
            <a:endParaRPr b="0" lang="en-US" sz="2400" spc="-1" strike="noStrike">
              <a:solidFill>
                <a:srgbClr val="000000"/>
              </a:solidFill>
              <a:latin typeface="Arial"/>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the leader's guidance both formally and informally.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orming</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Action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ition from the "As-Is" to the "To-Be”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 emphasis own ideas about team proces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agendas become important</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ization that tasks that are ahead are different and more difficult than they previously imagined.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tient about lack of progress</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y solely on their personal and professional experience </a:t>
            </a:r>
            <a:endParaRPr b="0" lang="en-US" sz="2600" spc="-1" strike="noStrike">
              <a:solidFill>
                <a:srgbClr val="000000"/>
              </a:solidFill>
              <a:latin typeface="Arial"/>
            </a:endParaRPr>
          </a:p>
          <a:p>
            <a:pPr marL="343080" indent="-343080">
              <a:lnSpc>
                <a:spcPct val="8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st collaborating with most other team memb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rming</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Action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es a consensus on the "To-Be" proces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to share the newly found focu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iasm is high</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ted to go beyond the original scope of the proces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reconcile competing loyalties and responsibiliti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conflict is reduced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from competitive to cooperative relationship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ground rules, roles, and the individuality of fellow membe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orming</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ical Actions</a:t>
            </a:r>
            <a:endParaRPr b="0" lang="en-US" sz="3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m settled its relationships and expectation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performing by diagnosing, problem solving, and implementing chang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overed and accepted other's strengths and weaknes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ed what their roles 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journing</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ical Actions</a:t>
            </a:r>
            <a:endParaRPr b="0" lang="en-US" sz="3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m briefs and shares the improved process during the this phas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tersweet sense of accomplish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uctance to say good-by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acilitation and </a:t>
            </a:r>
            <a:br>
              <a:rPr sz="4800"/>
            </a:br>
            <a:r>
              <a:rPr b="1" lang="en-US" sz="4800" spc="-1" strike="noStrike">
                <a:solidFill>
                  <a:srgbClr val="330066"/>
                </a:solidFill>
                <a:latin typeface="Arial"/>
              </a:rPr>
              <a:t>Team Development</a:t>
            </a:r>
            <a:endParaRPr b="1" lang="en-US" sz="4800" spc="-1" strike="noStrike">
              <a:solidFill>
                <a:srgbClr val="330066"/>
              </a:solidFill>
              <a:latin typeface="Arial"/>
            </a:endParaRPr>
          </a:p>
        </p:txBody>
      </p:sp>
      <p:sp>
        <p:nvSpPr>
          <p:cNvPr id="16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or Maja Husar Holmes</a:t>
            </a:r>
            <a:endParaRPr b="0" lang="en-US" sz="3200" spc="-1" strike="noStrike">
              <a:solidFill>
                <a:srgbClr val="000000"/>
              </a:solidFill>
              <a:latin typeface="Arial"/>
            </a:endParaRPr>
          </a:p>
        </p:txBody>
      </p:sp>
      <p:sp>
        <p:nvSpPr>
          <p:cNvPr id="170" name=""/>
          <p:cNvSpPr/>
          <p:nvPr/>
        </p:nvSpPr>
        <p:spPr>
          <a:xfrm>
            <a:off x="1676520" y="60199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University, Washington D.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dditional comments from </a:t>
            </a:r>
            <a:r>
              <a:rPr b="1" lang="en-US" sz="3500" spc="-1" strike="noStrike" u="sng">
                <a:solidFill>
                  <a:srgbClr val="7e9ce8"/>
                </a:solidFill>
                <a:uFillTx/>
                <a:latin typeface="Arial"/>
                <a:hlinkClick r:id="rId1"/>
              </a:rPr>
              <a:t>Maja</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uple of things to remember about the team lifecycle:</a:t>
            </a:r>
            <a:br>
              <a:rPr sz="1900"/>
            </a:br>
            <a:br>
              <a:rPr sz="1900"/>
            </a:br>
            <a:r>
              <a:rPr b="0" lang="en-US" sz="1900" spc="-1" strike="noStrike">
                <a:solidFill>
                  <a:srgbClr val="000000"/>
                </a:solidFill>
                <a:latin typeface="Arial"/>
              </a:rPr>
              <a:t>1) Most teams try to initially avoid the storming phase (out of fear or think they are too good to go through it), but I guarantee if individuals in the team have a stake in the process/outcome then they will have to successfully go through a storming phase to reach the stages.  </a:t>
            </a:r>
            <a:br>
              <a:rPr sz="1900"/>
            </a:br>
            <a:br>
              <a:rPr sz="1900"/>
            </a:br>
            <a:r>
              <a:rPr b="0" lang="en-US" sz="1900" spc="-1" strike="noStrike">
                <a:solidFill>
                  <a:srgbClr val="000000"/>
                </a:solidFill>
                <a:latin typeface="Arial"/>
              </a:rPr>
              <a:t>2) It is not necessarily a straight process, in other words, you may go through storming and norming and come back to storming (because you did not adequately storm)</a:t>
            </a:r>
            <a:br>
              <a:rPr sz="1900"/>
            </a:br>
            <a:br>
              <a:rPr sz="1900"/>
            </a:br>
            <a:r>
              <a:rPr b="0" lang="en-US" sz="1900" spc="-1" strike="noStrike">
                <a:solidFill>
                  <a:srgbClr val="000000"/>
                </a:solidFill>
                <a:latin typeface="Arial"/>
              </a:rPr>
              <a:t>3) The team lifecycle also highlights how the roles of the individuals change as they progress through the lifecycle.  For example, at the beginning they need more hand holding but towards the end they establish their own norms. </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5:08:36Z</dcterms:created>
  <dc:creator>Maja Holmes</dc:creator>
  <dc:description/>
  <dc:language>en-US</dc:language>
  <cp:lastModifiedBy>Administrator</cp:lastModifiedBy>
  <dcterms:modified xsi:type="dcterms:W3CDTF">2008-01-31T19:53:13Z</dcterms:modified>
  <cp:revision>14</cp:revision>
  <dc:subject/>
  <dc:title>Facilitation and  Team Development</dc:title>
</cp:coreProperties>
</file>